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9607-C87E-4FCF-9214-D4DE7374EF8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E46-1081-4F48-8C57-887A80874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ADB-8308-4509-8AE9-FBE83E7F9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CB7B-01AB-4241-AA3D-1BCA6A663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5F96-91D1-4A49-A78E-CF0BBF18F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3E9-25ED-4EBE-B79F-6E3CCE59C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EB2-AFA1-4A42-9962-B95704901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8137-D6A9-4F55-A887-A8CF8CD3B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E612-4D2D-44F6-838B-CA82CCD41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EAF-E3FD-44EF-B296-C0B7DF27C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8CDB-BCBF-494E-8036-7FC73674A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2F4-2FFE-49A7-9B03-E348D8980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3FE-7837-485A-A56F-8DF09D054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359-150E-4F7B-A681-B42D87B19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0A5-9270-4EA7-AC4C-C88AD077E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47FB-60FE-4ACF-9821-923BE24E9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81A1-F012-48C1-B9E5-86F940AFF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1D61-5F49-4844-9EC8-A73793209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FB9-9BE2-4A9F-8F9B-A056897D3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57F-A8CB-4920-B179-28730D80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264-61B3-4B75-A445-6333D35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FA6-67D1-4B32-B969-E54046ED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456-E91F-4D54-A729-80A7D62B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490-2EA2-4746-A0AA-1D4AFF0A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143-48DD-4A48-8719-0E37D98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3F8A-636E-4B19-9B99-6C5AC0DC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5F54-5F1A-4F65-B665-9A6CDF9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EF35-D79E-499D-873F-3BBF3BD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6EC5-993A-4C18-B586-8EB309BF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47D3-E978-4259-8C8C-AE51FF9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908-931B-45B0-8015-B862EA3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6E1F-AC19-496E-B4E4-8040B4D4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197-0AFA-4F0F-811C-EB2DEB5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999-7DB6-479D-97B6-A903CB1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FFD-3D4E-42BE-B116-E701AE4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8411-C68B-49A4-9923-AECBF351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FE5-9432-4A73-8AF5-F2E3628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831-2183-4E61-81B1-DB32EF1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B1D-15AC-4B57-869B-694425DD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D94-8132-4AD0-8A66-699D2D39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838-47E5-4FFE-B657-FFD13FA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88A-1528-4FB0-A104-068DEB9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71A-424B-4160-AF8C-E94709A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EDF-FA10-4915-825D-F84DED8480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5E2-4B35-4DAA-B515-F4CE79F14A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los sistemas de monitoreo de los país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d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 cambios en políticas e instituciona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71AE-1E03-4154-9865-DF47B65AF1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mbio de polí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mbio institucion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tegración de las consideraciones ambientales/cambio climático en políticas y estrategias nacionales y sectori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arrollo de políticas y planes orientadas a la  adaptación y mitigación (p.ej., RRD, REDD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arrollo de políticas y planes específicos para medio ambiente (p.ej., GIRH, biodiversidad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iderazgo polí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mpromiso institucion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ecanismo de coordinación y particip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cedimien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erramient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gramas de desarrollo de capacidad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La integración, ¿se está institucionalizando a todos los nivele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 implementación de las políticas y de resultado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BAA-4E22-4C09-AF2A-0EAA6E5433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mplementación (insumos, salida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201456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sultados, impact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asignación de recurs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Inclusión de) proyectos/programas de (medidas en) medio ambiente/cambio climático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Implementación y cumplimiento de medidas y reglamentos en relación con el medio ambiente/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enor deterioro ambiental y su incidencia sobre la pobreza/desarroll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resiliencia de grupos vulnerables (mujeres, niños, productores agrícolas, comunidades costeras, etc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resiliencia de sectores clav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recimiento verde, </a:t>
            </a:r>
            <a:br>
              <a:rPr sz="1400"/>
            </a:b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mpleo verd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Desarrollo sostenible desde una perspectiva ambiental, resilientes al clima, de bajas emisio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El proceso de integración, ¿obtiene resultados e impacto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arcos de evaluación de desempeño y apoyo presupuestari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EC6-FCB5-4352-A2E8-9EF4ADF6C5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Función de los MED (PAF) en relación con el apoyo presupuestario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avance medido en función de los criterios y metas de los MED brinda oportunidades para iniciar un diálogo político en el marco del apoyo presupuestari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MED asociado a estrategias de desarrollo y reducción de la pobreza puede incluir, cada vez con mayor frecuencia, indicadores y objetivos asociados a la sostenibilidad ambiental, la adaptación al cambio climático, la reducción del riesgos de desastres, la eficiencia energética, etc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 el caso del apoyo presupuestario de la CE, el desempeño con respecto a un subconjunto seleccionado de criterios y objetivos también determina la cantidad final de los desembols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F1B-250C-43E3-A38B-C60E441A71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Debate y planificación de accion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195-9080-4FD0-9A26-A0F2A02007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l medio ambiente y del cambio climát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 cambio político e institu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 la implementación de políticas y de result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04E-067C-4539-99AF-F1D765D71E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437000"/>
            <a:ext cx="5410440" cy="2089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monitoreo del medio ambiente y del cambio climático y el monitoreo de respuestas para la sostenibilidad ambiental y el cambio climático deberían integrarse en los sistemas existentes de monitoreo del desarroll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 trata de un aspecto clave del proceso de integr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muchos aspectos que pueden someterse a monitore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estado de las variables ambientales está íntimamente vinculado a la pobreza y al desarroll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cambio y la variabilidad del clima, así como sus impact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ambios en políticas e institucion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a implementación y los resultados de las medidas de adaptación y mitig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818-1951-490C-ABD6-52920E94E0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1571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gración de la adaptación al cambio climático en proyectos de gestión agrícola y de recursos naturale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ientación de la Comisión Europea (2009) sobre la integración del medio ambiente y el cambio climático en la cooperación para el desarroll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248-86E7-429D-AEB9-AB3F6EEB69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35080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Serie de Métodos de Prestación de Ayuda, Volumen 1. Comisión Europea, Bruselas. Disponible en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misión Europea (2009) Orientación sobre la integración del medio ambiente y el cambio climático en la cooperación para el desarrollo. Serie de Métodos y Herramientas de EuropeAid, Directrices, nº 4. Disponible en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CDE (2002) Glosario de términos clave en la evaluación y la gestión basada en resultados. Ediciones OCDE, París. Disponible en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711-2623-4EE1-A0E7-C2305AFABC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onitoreo y medición del desempeño: </a:t>
            </a:r>
            <a:br>
              <a:rPr sz="2800"/>
            </a:b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Conceptos clav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0158-DFBB-44CA-84F5-4D15BA71FF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tivos e indicadores/hitos relacionad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41300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Jerarquía de objetiv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41300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Medición del progreso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279520"/>
            <a:ext cx="2971800" cy="70380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bjetivo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lobal(e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152880"/>
            <a:ext cx="2971800" cy="70380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Objetivo(s)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específico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3052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termedi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100872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sum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92720" y="2276640"/>
            <a:ext cx="2936880" cy="70380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dicadores de impacto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141720"/>
            <a:ext cx="2971800" cy="70380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149720"/>
            <a:ext cx="2971800" cy="100872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 produc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313240"/>
            <a:ext cx="2971800" cy="100872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 insum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81000" y="5013000"/>
            <a:ext cx="1080" cy="3067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81000" y="3859920"/>
            <a:ext cx="1080" cy="4453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/>
          <p:nvPr/>
        </p:nvCxnSpPr>
        <p:spPr>
          <a:xfrm flipV="1">
            <a:off x="2771280" y="2970000"/>
            <a:ext cx="1080" cy="2102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>
            <a:off x="4266720" y="5821200"/>
            <a:ext cx="991440" cy="72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>
            <a:off x="4266720" y="4655880"/>
            <a:ext cx="991440" cy="39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495240"/>
            <a:ext cx="991440" cy="118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360" y="2630160"/>
            <a:ext cx="1026360" cy="39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68360" y="1844640"/>
            <a:ext cx="287280" cy="2527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68360" y="443700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CE (2004), OCDE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2D3-587A-4399-A4B0-4C78BC204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dicadores y objetivos SMAR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FECF-6310-4F5A-8614-F4B138782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188928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indicadores y objetivos deberían ser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específicos con respecto a los objetivos asociado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bl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ealizables a un coste razon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tinentes, en relación con las necesidades de información de los tomadores de decision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y con plazo determinado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C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La integración del medio ambiente y del cambio climático en los sistemas de monitoreo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D87-4EB7-4285-87B0-8DCA811300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¿Qué debería monitorearse? ¿Por qué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B405-613E-4B11-90BA-3F4F412597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844640"/>
          <a:ext cx="8686800" cy="488304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o a monitorea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damentos para monitorea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s en parámetros ambientales que influyen considerablemente en la pobreza y 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decisiones lo más fundamentadas que sea posible para aprovechar oportunidades de mejorar los efectos en la reducción de la pobreza y revertir las tendencias negativ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cambio y la variabilidad del clima, los impactos y los factores de vulnerabilida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decisiones lo mejor informadas que sea po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tión de apoyo adaptativ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 político e institucion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la institucionalización de la integración del medio ambiente y cambio climát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jorar la transparencia y responsabilidad del proceso de integr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ción y resultados de políticas/estrateg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olidar el compromiso con respecto a los objetivos establecidos en políticas y estrateg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imular el logro de resultados tangib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l medio ambiente y el cambio climático en el sistema nacional de monitoreo de desarroll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monitoreo del medio ambiente y del cambio climático debería integrarse en sistemas de monitoreo de desarrollo nacionales y específicos más ampli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onsolidar y adaptar los sistemas de monitoreo existentes (incl. sistemas estadísticos) para integrar el medio ambiente y 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esarrollar instituciones y fuentes de información existentes..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.. adaptando, no obstante, los sistemas estadísticos y las fuentes de dat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F81-D9EA-468D-9C70-E8BEBEC529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Niveles a los que debe medirse el desempeño relativo al medio ambiente y al clima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indicadores e hitos relativos al medio ambiente/cambio climático y la respuesta asociada pueden incluirse en los MED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de estrategias y planes de acciones ambientales y de cambio climático, pero también los d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rategias y programas de desarrollo nacionales y sectori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es de desarrollo subnacionales (p.ej., regional, loc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yectos individuales (marco lógic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Marcos de evaluación de desempeño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44380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538960" y="5805360"/>
            <a:ext cx="306540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El objetivo primordial de la integr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DF6-3130-40EC-A96A-E1FF237E1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l medio ambiente y el cambio climátic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4C4-5AED-4BD8-AFD3-E4044F2774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73680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207972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arámetros de meteorología, variabilidad climática y ambient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368440"/>
            <a:ext cx="1979640" cy="83844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44808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Recopilación, gestión y difusión de da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nsolidación de sistemas y datos meteorológ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44808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uevos model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endencias emergent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Previsiones, escenari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Herramientas para evaluar impactos, factores de vulnerabilidad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y riesg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504036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l proceso de integración, ¿se basa en información fiable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25T15:43:27Z</dcterms:modified>
  <cp:revision>122</cp:revision>
  <dc:subject/>
  <dc:title>Slide 1</dc:title>
</cp:coreProperties>
</file>